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FE0-EA2D-413D-8863-91EC6904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FA8-5D34-4741-9847-48FEFD6F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26D-A789-46A6-B347-B7E6B9B9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045-55C8-44E3-BFCF-8BD5DE7E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6AE0-5BA2-402B-BECC-A1EB7E92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2315-A975-4E77-86E3-21C876D7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4CF5-77D2-43FB-A95C-867C820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CFEB-8BE4-402E-9DA4-9E9FD60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BDE2-DA74-4B11-AB66-1BF18305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BD1D-9CA8-4861-8ECE-CBF6518F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AAEF-9CA5-4909-8D4D-DC6CFFA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AB5-BE7B-4601-9686-5F4B791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5FD-AEE3-4B8D-9FE5-5D7EACBA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3B88-DC15-442C-9F95-C1493BD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27A2-CED5-482C-B19C-B3553E9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0259-6328-41D2-A9F9-8411E4E9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55FE-5B6A-4744-811C-D73A206D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385-5D9B-4F0D-B843-9609CEC1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155-3B4D-4C8A-AD24-69E67981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4E4-0B57-44CD-B8B3-695BB9B8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E6B-1617-4664-8F29-4BCAE926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2BA-3713-4966-987A-59432D50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053-A843-49ED-9ED8-93FBCB16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C7C-1499-4741-A69F-AAD8286D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Pierre Cho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9543-D121-4892-9A02-67DCE760AE3C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Picture 2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3f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fafd00"/>
              </a:buClr>
              <a:buSzPct val="57000"/>
              <a:buFont typeface="Monotype Sort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</a:rPr>
              <a:t>Johanna Bern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51280" y="6244920"/>
            <a:ext cx="14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3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3B9C-B60B-483F-AA8D-6E9341DBAA02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circabc.europa.eu/w/browse/e1adf8de-0ad6-4484-84ec-80704391a038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biocides/" TargetMode="External"/><Relationship Id="rId2" Type="http://schemas.openxmlformats.org/officeDocument/2006/relationships/hyperlink" Target="https://circabc.europa.eu/w/browse/85cf24d4-e4d3-4b34-b59d-7a69394d0942" TargetMode="External"/><Relationship Id="rId3" Type="http://schemas.openxmlformats.org/officeDocument/2006/relationships/hyperlink" Target="http://echa.europa.eu/regulations/biocidal-products-regulation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The New Biocidal Products Regulation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3f"/>
                </a:solidFill>
                <a:latin typeface="Arial"/>
              </a:rPr>
              <a:t>Overview of the main principles and provisions</a:t>
            </a:r>
            <a:endParaRPr b="1" lang="en-US" sz="2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4146120"/>
            <a:ext cx="64008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06 October 2014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3f"/>
                </a:solidFill>
                <a:latin typeface="Arial"/>
              </a:rPr>
              <a:t>Meeting with Brazilian delegation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403280" y="573408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Pierre Choraine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European Commission 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3f"/>
                </a:solidFill>
                <a:latin typeface="Arial"/>
              </a:rPr>
              <a:t>DG Environment, Unit A.3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proces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a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this Member Stat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in the Biocidal Products Committe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pproving the substa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45600" y="2520720"/>
            <a:ext cx="849636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 sequence or in parall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90 days for Member States to agree between the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Unresolved disagreements referred to co-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mission to settle un-resolved disagree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possible on grounds of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protection of, e.g., environment or health, or 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absence of target organism</a:t>
            </a:r>
            <a:endParaRPr b="1" lang="en-US" sz="18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fusal or adjustment subject to agreement with applicant or Commission decis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5864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ational authorisations and mutual recognition procedu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7740-4E55-475C-99CD-9FA6CDF1329F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826920" y="1014480"/>
            <a:ext cx="7490160" cy="56545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394-CAA4-4430-8649-5A5D695E80E9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340000" y="1916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3f"/>
                </a:solidFill>
                <a:latin typeface="Times New Roman"/>
              </a:rPr>
              <a:t>3900 products are now  authorised in accordance with the BP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0ED-3118-42DD-995B-A99DFE34487C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24000" y="1380960"/>
            <a:ext cx="8496000" cy="500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761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5600" y="2276280"/>
            <a:ext cx="849636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Facilitate access to the entire EU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valid across EU unless explicitly restricted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ducts with similar conditions of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ot open to substances fulfilling the exclusion criteria, rodenticides or antifouling products (Article 42(1)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gressive phase-in period for workability until 1 January 2020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D83-10F5-4319-8129-05A20404C739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hase-in period for reasons of workability for ECHA and COM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9/2013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roducts containing </a:t>
            </a: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new active substances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 and PTs 1,3, 4, 5,18 and 19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17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PTs 2, 6 and 13;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From 1/1/2020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the remaining PTs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362800" cy="38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e-submission meet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lication submitted to ECHA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ossier evaluated by evaluating competent authority chosen by applican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valuation (12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eer-review by Biocidal Products Committee 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(6 months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CHA opinion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M decision allowing the placing on the market of the product on the entire Union marke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836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Union authoris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3680" y="242064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s: Limit vertebrate testing, prevent competition distortion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from tests on vertebrate animal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l tox- and eco-tox studies for existing active substances for alternative suppliers and their client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spective applicant and data owner must seek agreement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If negotiation fails, ECHA gives prospective applicant right to refer if every effort was made to reach agreement and a share of the costs incurred was paid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portionate share of the costs to be settled by national courts</a:t>
            </a:r>
            <a:r>
              <a:rPr b="0" lang="fr-BE" sz="2000" spc="-1" strike="noStrike">
                <a:solidFill>
                  <a:srgbClr val="00003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nsation for data sharing shall be determined in a fair, transparent and non-discriminatory manne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data shar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0FAC-D2CF-4012-877D-9B4344E01D7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of biocidal produc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sts and 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mplementing legislation and guidance document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reated</a:t>
            </a:r>
            <a:r>
              <a:rPr b="0" lang="fr-BE" sz="2400" spc="-1" strike="noStrike">
                <a:solidFill>
                  <a:srgbClr val="00003f"/>
                </a:solidFill>
                <a:latin typeface="Arial"/>
              </a:rPr>
              <a:t>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ndatory cost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s of 1 Sept. 2013, all active substance manufacturers or importers to submit a dossier or a letter of access to ECHA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ECHA to publish list of manufacturer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ovisional list available at: http://echa.europa.eu/information-on-chemicals/active-substance-supplie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Mandatory data and fair costs sharing to apply to all tox. and eco-tox. studies, including environmental fate and behaviour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Data protection until 31 Dec. 2025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products containing existing active substances of manufacturers not listed by ECHA shall not be placed on the market after 1 Sept. 2015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torage and use of existing stocks allowed until 1 Sept. 2016.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etent authorities to carry out official controls.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imilarity, as regards the chemical composition and hazard profile, of a substance produced either from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source different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 to the reference source, or from the reference source but following a </a:t>
            </a:r>
            <a:r>
              <a:rPr b="0" lang="en-GB" sz="2400" spc="-1" strike="noStrike" u="sng">
                <a:solidFill>
                  <a:srgbClr val="00003f"/>
                </a:solidFill>
                <a:uFillTx/>
                <a:latin typeface="Arial"/>
              </a:rPr>
              <a:t>change to the manufacturing process and/or manufacturing location</a:t>
            </a: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, compared to the substance of the reference source in respect of which the initial risk assessment was carried out.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gency responsible for establishing technical equivalence (Article 54).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Implementing legislation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nd 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guidance document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Implementing legisl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4000" y="1479600"/>
            <a:ext cx="84564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changes to product authorisation :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Reg. (EU) No 35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 April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authorisation of same biocidal products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414/2013 of 6</a:t>
            </a:r>
            <a:r>
              <a:rPr b="0" lang="en-GB" sz="1600" spc="-1" strike="noStrike" baseline="33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fees to ECHA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564/2013 of 18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extension of duration of review programme to 2024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736/2013 of 1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May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modification on data requirements (proof of technical equivalence in BP applications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37/2013 of 25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une 201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inclusion of active substances into Annex I of the BPR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88/2014 of 31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st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 January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procedures for the renewal of authorisations by mutual recognition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. (EU) No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492/2014 of 7</a:t>
            </a:r>
            <a:r>
              <a:rPr b="0" lang="en-GB" sz="1600" spc="-1" strike="noStrike" baseline="30000">
                <a:solidFill>
                  <a:srgbClr val="00003f"/>
                </a:solidFill>
                <a:latin typeface="Arial"/>
                <a:ea typeface="Arial Unicode MS"/>
              </a:rPr>
              <a:t>th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 March 2014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3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Regulation on the organisation of the review programme of active substances (to replace Reg. (EU) 1451/2007) : </a:t>
            </a:r>
            <a:r>
              <a:rPr b="0" lang="en-GB" sz="1600" spc="-1" strike="noStrike">
                <a:solidFill>
                  <a:srgbClr val="00003f"/>
                </a:solidFill>
                <a:latin typeface="Arial"/>
                <a:ea typeface="Arial Unicode MS"/>
              </a:rPr>
              <a:t>adopted, entry into force expected by end October 201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CD5-FAD5-4819-9219-C30789F1571B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395280" y="112536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  <a:ea typeface="Arial Unicode MS"/>
              </a:rPr>
              <a:t>Commission guid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66680" y="1557360"/>
            <a:ext cx="8686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Work on guidance documents or proposals on various topics 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Management of nanomaterial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f2d79b34-2f5a-4bb4-97e8-b982c9def765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fees payable to Member States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b5c900a2-ef66-4a46-996d-00d5a29aee9a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similar conditions of use, for the Union authorisation 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: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b0f0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2ac21f0f-d790-4667-9358-1bcd0db0b35e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Guidance on treated articles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e1adf8de-0ad6-4484-84ec-80704391a038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Document on comparative assessment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d309607f-f75b-46e7-acc4-1653cadcaf7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Other Guidance under discussion : 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Borderline between biocidal products and cosmetics :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 u="sng">
                <a:solidFill>
                  <a:srgbClr val="00b0f0"/>
                </a:solidFill>
                <a:uFillTx/>
                <a:latin typeface="Arial"/>
                <a:ea typeface="Arial Unicode MS"/>
              </a:rPr>
              <a:t>https://circabc.europa.eu/w/browse/6283ad7a-7416-4b83-a201-92ba58224222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003f"/>
                </a:solidFill>
                <a:latin typeface="Arial"/>
                <a:ea typeface="Arial"/>
              </a:rPr>
              <a:t>etc. 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388360" y="6453360"/>
            <a:ext cx="514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8F50-D801-49EC-BD3E-01D17AC23539}" type="slidenum">
              <a:rPr b="0" lang="en-GB" sz="1400" spc="-1" strike="noStrike">
                <a:solidFill>
                  <a:srgbClr val="00003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reated Articl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496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Objective: Protection of health and environment, level playing field between production within vs outside of the EU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llowed on the market only if all the active substances are approved for the relevant us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abelling requirement for certain artic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Readiness to provide consumer inform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Control of articles treated with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A03-11E7-48D7-A1DA-D8BC42732439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055-2260-41C2-8536-45C0D78DD211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635280" y="3514680"/>
            <a:ext cx="45817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395280" y="1276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s and scop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A6E-4B05-412B-9237-8718C8648AD5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5760" y="2708280"/>
            <a:ext cx="8496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Definition of "treated articles"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Substance, mixture or article, </a:t>
            </a:r>
            <a:r>
              <a:rPr b="0" i="1" lang="en-GB" sz="2000" spc="-1" strike="noStrike">
                <a:solidFill>
                  <a:srgbClr val="00003f"/>
                </a:solidFill>
                <a:latin typeface="Arial"/>
              </a:rPr>
              <a:t>i.e.,</a:t>
            </a: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 not only articles within the meaning of the REACH Regul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reated with or intentionally incorporating biocid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Excluded from the substantive ru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tainer fumigation where no residues rem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ansitional rul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Substance/product-type combinations that have not yet been approved are allowed in treated articles if: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he substance/product-type combination is still in the review programme for existing active substance, or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n application for approval of the substance/product-type is submitted before 1 September 2016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519280"/>
            <a:ext cx="806436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uthorisation required prior to placing on the market 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Approval of biocidal active substances at EU level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product authorisation with mutual recogni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ndustry responsible for submitting data allowing evalu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National rules apply during the programme for review of existing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79520" y="14382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Main princi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D151-8CD2-4D93-BC89-6E22A9B06C6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395280" y="105264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Labelling requir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973160"/>
            <a:ext cx="822960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Labelling is required if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laim is made regarding </a:t>
            </a:r>
            <a:r>
              <a:rPr b="0" lang="en-GB" sz="1900" spc="-1" strike="noStrike" u="sng">
                <a:solidFill>
                  <a:srgbClr val="00003f"/>
                </a:solidFill>
                <a:uFillTx/>
                <a:latin typeface="Arial"/>
              </a:rPr>
              <a:t>biocidal properties of the articl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r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Conditions of substance approval so requir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formation to be provided in the national languag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Statement that article incorporates biocide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Biocidal property of the articl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Name of all active substances and all nanomaterial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Instructions for use to protect man and environment, where appropriate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Instructions for use</a:t>
            </a:r>
            <a:r>
              <a:rPr b="0" lang="en-GB" sz="1900" spc="-1" strike="noStrike">
                <a:solidFill>
                  <a:srgbClr val="00003f"/>
                </a:solidFill>
                <a:latin typeface="Arial"/>
              </a:rPr>
              <a:t>, on any article where necessary to protect man or environment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900" spc="-1" strike="noStrike">
                <a:solidFill>
                  <a:srgbClr val="00003f"/>
                </a:solidFill>
                <a:latin typeface="Arial"/>
              </a:rPr>
              <a:t>Obligation for suppliers to give some information at the request of a consumer within 45 days</a:t>
            </a: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66DE-9EEC-45E5-8838-BFD6EC1C4273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reated articles considered biocidal produ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6036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00003f"/>
                </a:solidFill>
                <a:latin typeface="Arial"/>
              </a:rPr>
              <a:t>Treated articles having 'primary biocidal function' (Article 3(1)(a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function = the function of controlling harmful organisms by other than mere physical or mechanical a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Biocidal treatment for preservation of the article itself ≠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rimary = of first rank or importance compared with another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ncept to be clarified on case-by-case basis (Article 3(3)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 to be taken into consideration: intended use, claim regarding the function, concentration of active substanc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978B-7314-4205-B4DE-27B9CC6E316F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Issues open to interpret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95280" y="2421000"/>
            <a:ext cx="822960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Notion of primary biocidal fun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lex articles of which only parts have been trea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unication obligations further down the supply chai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Level of scrutiny of different uses of treated articles for the purpose of active substance approv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14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mission guidance on treated articles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85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s://circabc.europa.eu/w/browse/e1adf8de-0ad6-4484-84ec-80704391a038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3f"/>
              </a:buClr>
              <a:buSzPct val="5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26B-64E7-4CE3-BEA6-C7281695B764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33360" y="1079640"/>
            <a:ext cx="830592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en-GB" sz="1800" spc="-1" strike="noStrike">
                <a:solidFill>
                  <a:srgbClr val="00003f"/>
                </a:solidFill>
                <a:latin typeface="Arial"/>
              </a:rPr>
              <a:t>For further information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ommission website 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1"/>
              </a:rPr>
              <a:t>http://ec.europa.eu/environment/biocides/</a:t>
            </a:r>
            <a:r>
              <a:rPr b="1" lang="en-GB" sz="1800" spc="-1" strike="noStrike" u="sng">
                <a:solidFill>
                  <a:srgbClr val="00003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CIRCABC public space on biocides: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2"/>
              </a:rPr>
              <a:t>https://circabc.europa.eu/w/browse/85cf24d4-e4d3-4b34-b59d-7a69394d094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i="1" lang="en-GB" sz="1800" spc="-1" strike="noStrike">
                <a:solidFill>
                  <a:srgbClr val="00003f"/>
                </a:solidFill>
                <a:latin typeface="Arial"/>
              </a:rPr>
              <a:t>ECHA website &amp; Helpdesk on Biocides: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GB" sz="1800" spc="-1" strike="noStrike" u="sng">
                <a:solidFill>
                  <a:srgbClr val="693f00"/>
                </a:solidFill>
                <a:uFillTx/>
                <a:latin typeface="Arial"/>
                <a:hlinkClick r:id="rId3"/>
              </a:rPr>
              <a:t>http://echa.europa.eu/regulations/biocidal-products-regulation</a:t>
            </a:r>
            <a:r>
              <a:rPr b="1" lang="en-GB" sz="18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84360" y="1197000"/>
            <a:ext cx="8208720" cy="144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8360" y="624528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E57-A3D7-4684-9206-29B282E0B7BE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3680" y="2349000"/>
            <a:ext cx="8496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Provide scientific and technical support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Coordinate substance approval, Union authoris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ecretariat for BPC and the Coordination group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IT platform (R4BP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Electronic submission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dissemination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Data sharing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Technical equivalence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List of (alternative) suppliers of active substances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elpdesk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The European Chemicals Agency (ECH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87AC-E093-406F-9182-076795FFE0EF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Hazard based exclusion criteria (Article 5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 : exclude active substances of very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MR category 1A or 1B, PBT, vPvB, endocrine disrupto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principle: cannot be approved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The derogation: approval possible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if exposure negligible, substance essential or non-approval has disproportionate negative impact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subject to risk mitigation measure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only for Member States where needed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for maximum 5 years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3f"/>
              </a:buClr>
              <a:buSzPct val="57000"/>
              <a:buFont typeface="Monotype Sorts" charset="2"/>
              <a:buChar char="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3f"/>
                </a:solidFill>
                <a:latin typeface="Arial"/>
              </a:rPr>
              <a:t>as candidate for substitution</a:t>
            </a:r>
            <a:endParaRPr b="0" lang="en-US" sz="16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818-1C91-43A9-AAFE-75E77E402826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45600" y="2491920"/>
            <a:ext cx="849636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f"/>
              </a:buClr>
              <a:buSzPct val="57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3f"/>
                </a:solidFill>
                <a:latin typeface="Arial"/>
              </a:rPr>
              <a:t>Substitution criteria (Article 10)</a:t>
            </a:r>
            <a:endParaRPr b="1" lang="en-US" sz="24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Objective: Substitution of substances of high concer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riteria: Exclusion criteria, other properties of high concern (Art 10) 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pproved for a maximum of 7 years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Comparative assessment at product authorisation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Alternatives must present significantly lower risk, be sufficiently effective, present no significant disadvantage, and provide sufficient chemical diversity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3f"/>
              </a:buClr>
              <a:buSzPct val="57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3f"/>
                </a:solidFill>
                <a:latin typeface="Arial"/>
              </a:rPr>
              <a:t>Possible derogation for a maximum of 4 years in order to gain experience</a:t>
            </a:r>
            <a:endParaRPr b="1" lang="en-US" sz="2000" spc="-1" strike="noStrike">
              <a:solidFill>
                <a:srgbClr val="00003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79520" y="1413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3f"/>
                </a:solidFill>
                <a:latin typeface="Arial"/>
              </a:rPr>
              <a:t>Approval of active substan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451640" y="6245280"/>
            <a:ext cx="14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296-67DC-463F-BD9D-1BA3F9089373}" type="slidenum">
              <a:rPr b="0" lang="en-GB" sz="1400" spc="-1" strike="noStrike">
                <a:solidFill>
                  <a:srgbClr val="00003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Review programme for existing</a:t>
            </a:r>
            <a:br>
              <a:rPr sz="3200"/>
            </a:br>
            <a:r>
              <a:rPr b="1" lang="en-GB" sz="3200" spc="-1" strike="noStrike">
                <a:solidFill>
                  <a:srgbClr val="00003f"/>
                </a:solidFill>
                <a:latin typeface="Arial"/>
              </a:rPr>
              <a:t> active substances</a:t>
            </a:r>
            <a:endParaRPr b="1" lang="en-US" sz="3200" spc="-1" strike="noStrike">
              <a:solidFill>
                <a:srgbClr val="000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24000" y="1014480"/>
            <a:ext cx="85500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5T12:23:40Z</dcterms:created>
  <dc:creator>Johanna Bernsel</dc:creator>
  <dc:description/>
  <dc:language>en-US</dc:language>
  <cp:lastModifiedBy>CHORAINE Pierre (ENV)</cp:lastModifiedBy>
  <cp:lastPrinted>2013-12-18T14:48:35Z</cp:lastPrinted>
  <dcterms:modified xsi:type="dcterms:W3CDTF">2014-10-09T11:26:03Z</dcterms:modified>
  <cp:revision>723</cp:revision>
  <dc:subject>Revision of the Biocides Directive</dc:subject>
  <dc:title>AT Conference Nov12</dc:title>
</cp:coreProperties>
</file>